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4BC-8345-4EA5-8BD5-085E8DDA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E06-82BD-4DDB-9B24-AE728118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974-792D-4C93-82C0-5181877C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985-1D01-426A-98E0-F0F39EA0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53A4-EA42-4BD1-BA2E-FF9536CB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B50-AA62-4BA7-9C91-C8EC3E4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16E-0291-4D0F-A32A-2EB8700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B269-5725-4A5F-BA8A-FB3B4AE0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5420-9F11-4104-8E0C-E7AC7CF8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F1CC-7852-469D-A76C-DA69504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6853-7113-40F9-9F54-8811AE3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6F0-743F-492E-801B-4F5096CE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2696-6157-492C-B955-D16ABD4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31E4-9550-4E8F-A703-30910B9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9AB-68AB-40E7-8037-D5F4151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F552-CBDF-4EA6-8618-FAA71C49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EF5-2A5E-4FF4-B9E9-78516C3E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265-DB4A-4A41-9763-DE380F2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506-75A0-4525-99D6-306D74FA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A93-E70E-4DB8-9DE5-C9385655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265-DE44-49B9-B07A-1BB019E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275-0402-4206-AC14-BEDD0BF3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194-287B-4DAC-9A6F-039CEFA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B6B-B249-445E-A20C-CFA070EC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086A5C-9D97-4A5A-8A6C-204FEF27AAA2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8EAC44-21AA-426D-9486-E9D50BD771F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4" descr="testei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49B237-F265-4C3A-AA15-FFFDB73A1E2B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4CAE7B-01A5-47BF-BA86-374D98B0254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33280" y="1628640"/>
            <a:ext cx="86425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55baf"/>
                </a:solidFill>
                <a:latin typeface="Arial"/>
                <a:ea typeface="Arial"/>
              </a:rPr>
              <a:t>Serviços de Infraestrutura de T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55baf"/>
                </a:solidFill>
                <a:latin typeface="Arial"/>
                <a:ea typeface="Arial"/>
              </a:rPr>
              <a:t>Melhoria e Proativida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55baf"/>
                </a:solidFill>
                <a:latin typeface="Arial"/>
                <a:ea typeface="Arial"/>
              </a:rPr>
              <a:t>Superior Tribunal de Justiç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50920" y="1700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Arial"/>
              </a:rPr>
              <a:t>Propostas da Equ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dida de Serviços Existen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– Ponto de Função e Ponto de Sustentação (TI Control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-Desk – Nº de atendimentos e/ou equipament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dade de Suporte Técnico (US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Criação de uma UNI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DE MEDIDA única, maleável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acordo com a organizaçã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baseada em </a:t>
            </a:r>
            <a:r>
              <a:rPr b="1" lang="en-GB" sz="2400" spc="-1" strike="noStrike" u="sng">
                <a:solidFill>
                  <a:srgbClr val="c0504d"/>
                </a:solidFill>
                <a:uFillTx/>
                <a:latin typeface="Arial"/>
                <a:ea typeface="Arial"/>
              </a:rPr>
              <a:t>Tempo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 e </a:t>
            </a:r>
            <a:r>
              <a:rPr b="1" lang="en-GB" sz="2400" spc="-1" strike="noStrike" u="sng">
                <a:solidFill>
                  <a:srgbClr val="c0504d"/>
                </a:solidFill>
                <a:uFillTx/>
                <a:latin typeface="Arial"/>
                <a:ea typeface="Arial"/>
              </a:rPr>
              <a:t>Complexidade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c0504d"/>
                </a:solidFill>
                <a:latin typeface="Arial"/>
                <a:ea typeface="Arial"/>
              </a:rPr>
              <a:t>da tecn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924520" y="4365720"/>
            <a:ext cx="307332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55baf"/>
                </a:solidFill>
                <a:latin typeface="Arial"/>
                <a:ea typeface="Arial"/>
              </a:rPr>
              <a:t>O PROJET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250920" y="1916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Imagem 5" descr="Imagem1.png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895640"/>
          </a:xfrm>
          <a:prstGeom prst="rect">
            <a:avLst/>
          </a:prstGeom>
          <a:ln w="0">
            <a:noFill/>
          </a:ln>
        </p:spPr>
      </p:pic>
      <p:sp>
        <p:nvSpPr>
          <p:cNvPr id="118" name="Retângulo 1"/>
          <p:cNvSpPr/>
          <p:nvPr/>
        </p:nvSpPr>
        <p:spPr>
          <a:xfrm>
            <a:off x="395280" y="1413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Arial"/>
              </a:rPr>
              <a:t>UST – MODELO DE CÁL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50920" y="184464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pos de Serviç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visão dos produtos em três class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tineiras (proatividade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orte (produção/operação)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manda (Inovaçã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ógica dos Serviços: Linha de Produção/proce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arefas adequáveis a produtos de cada Institu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ição das tarefas em atividades (procedimento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tividades focadas em processos técnico-operacion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50920" y="1989000"/>
            <a:ext cx="8642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Objetivos Contratáve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rviços baseados em resultados com qual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evação da qualidade por padronização dos serviço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ração de séries históricas para consolidação das métricas estimada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paração das atividades demandadas (inovação, produção e proatividade) das obrigações contratuais (reatividade, manutenção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uto execução e gestão do contrat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gamento condicionado à 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50920" y="162720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Proposta de Taref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visão dos serviços em produtos genéric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manda por escop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licitação sempre formalizada por Ordens de Serviç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arefas pré-definidas, decompostas em atividad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steamento em U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uivalência de complexidade das atividad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 e padrões de qualidades para cada taref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ssibilidade de ampliação das tare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50920" y="1341360"/>
            <a:ext cx="864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Divisão das Taref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otineiras (proatividad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atividades que tem periodicidade definida para execução (custo por vigência contratua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orte (produçã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atividades de suporte e execução de serviços em equipamentos do CPD, que requeiram atendimento imediato (custo por unidade executad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manda (inovaçã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tarefas que poderão ser demandadas mas que não tem previsão e procedimentos/processos definidos (implantação, novas instalações, etc.) – (custo por etap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50920" y="134136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Ordem de Serviç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manda oficializada obrigatoriamente por Ordem de Serviç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clusiva para cada taref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lização da demanda (campo observação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arefa com prazos determinados (início e fim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cerrada somente quando todos os objetivos propostos forem plenamente atingido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igência de relatório de entrega para valid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plicação de glosas para falta de qualidade de entrega       e/ou de padroniz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testes de todos os atores da organiz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50920" y="1628640"/>
            <a:ext cx="8642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Obrigação Contratual – Sem pag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orte reativo – com SLA para restaur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ção, controle e procediment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uipe mínima alocad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pecialistas certificados para % demand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uxiliares de execução/produçã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eposto e/ou substituto gerenciando 24x7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pervisor de serviços (garantir produtividade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ocumentadores (padronização de processos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riagem (garantir SLA da produção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onitoramento simultâne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0920" y="1484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Qualidade e Gl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 do Produ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Toda tarefa deverá definir o resultado esperado, a qualidade de execução e as condições d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os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 serem aplicadas diretam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 da Produç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- Nível Mínimo de Qualidade esperado mensalmente pela TI, devendo ser medido e avaliado para o ateste. Caso não seja atingido pelo contratado, deverão ser aplicadas a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os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evist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uiparaçã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Definição de níveis de tolerância para reincindência de glosas por produto/produção. Alé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s glosas, será aplicado um % de desconto sobre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turamento + alerta/advertê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55baf"/>
                </a:solidFill>
                <a:latin typeface="Arial"/>
                <a:ea typeface="Arial"/>
              </a:rPr>
              <a:t>A ORIGE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55baf"/>
                </a:solidFill>
                <a:latin typeface="Arial"/>
                <a:ea typeface="Arial"/>
              </a:rPr>
              <a:t>Preparação das Equip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55baf"/>
                </a:solidFill>
                <a:latin typeface="Arial"/>
                <a:ea typeface="Arial"/>
              </a:rPr>
              <a:t>http://www.ticontrole.gov.br/portal/page/portal/ticont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55baf"/>
                </a:solidFill>
                <a:latin typeface="Arial"/>
                <a:ea typeface="Arial"/>
              </a:rPr>
              <a:t>O CONTRAT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50920" y="1484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A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trata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and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Responsável pela solicitação (OS) e validação dos resultado (RA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sc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Controle da qualidade e validação da produtividade (Anexo VI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s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Aprovação das demandas (OS) e ateste dos resultados (RA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263680"/>
          <a:ext cx="8229600" cy="3198960"/>
        </p:xfrm>
        <a:graphic>
          <a:graphicData uri="http://schemas.openxmlformats.org/drawingml/2006/table">
            <a:tbl>
              <a:tblPr/>
              <a:tblGrid>
                <a:gridCol w="3995640"/>
                <a:gridCol w="4233960"/>
              </a:tblGrid>
              <a:tr h="1828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ovação dos Serviços da 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rência e Atual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701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icitante dos Serviç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imbo/Da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or Operacional do Contra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imbo/Da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ste Fi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açã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4630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or do Contra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imbo/Da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a Contratada: (    ) Total  (    ) Parcial – Apresentará recurs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osto da Contratad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imbo/Da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250920" y="1268280"/>
            <a:ext cx="8642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Atores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trata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pos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Gestão administrativa, organizacional, de pessoal e financei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ervis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Produtividade e qual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cumentad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Modelagem de processos operacion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250920" y="1484280"/>
            <a:ext cx="8569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Contrato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delo de Serviç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scop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o que demandar) – De monitoramento e operação à governança de T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cuç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como executar) – Define as regras e condições para a execução das tarefas/atividad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da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(o que atender) – Molda os resultados baseado em requisitos de qualidade e padroniz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0920" y="1484280"/>
            <a:ext cx="8497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Contrato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malização das Deman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and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OS) – Especifica as regras para demandar (o que, como e quando solicita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RA e NMQ) – Como e quando entregar o produto e as condições/obrigações de aplicação das glo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vos Produt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Define condições e procedimentos para inclusão /exclusão/ alteração de taref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50920" y="1268280"/>
            <a:ext cx="864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Contrato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dições de Faturam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ur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Define as condições para faturamento (execução, validação, comprovação e autorização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os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RA e NMQ) – Modela as condições de glosas (como e quando deverão ser aplicadas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cont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Define as condições e fórmulas de aplicação dos descont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0" y="1773360"/>
            <a:ext cx="8893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Contr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stão do Contra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300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finiçã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péis e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de cada ator envolvi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300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dições par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es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 aprovação das fatur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300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brigatoriedade de preenchiment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órios de encerr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das tarefas e da produç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300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dições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imensionamen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300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LA para ações reativas combinadas com multas e integradas com tarefas proativas para aplicação de glos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300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anções e penalidades par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rigações contratu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55baf"/>
                </a:solidFill>
                <a:latin typeface="Arial"/>
                <a:ea typeface="Arial"/>
              </a:rPr>
              <a:t>A EXECUÇÃ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Execução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ficuldades de execu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alta de maturidade (contratante e contratad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erda de poder e dissipação padronizada do conhecimento técnico (contratant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jeição de procedimentos e padronizaç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Qualidade dos serviços x lucratividade financeira da contratada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s: especificação e supervisão da demand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ivelar o conhecimento das equipes técnicas acerca dos requisitos legais para contratação de serviços de T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talhar procedimentos práticos derivados do QRN com elementos de segmentos específicos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reparar os órgãos membros da TIControle para aperfeiçoar o atendimento aos requisitos legais mapeados no QRN e na IN SLTI nº 4/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250920" y="1628640"/>
            <a:ext cx="8642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Execução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s obtid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ativida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a disponibilidade dos serviç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ção técnico-operacion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dronização por procediment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ção com qualida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upervisão por especialist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latórios de análises e documentação técnica padronizada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gistro de todas as atividad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 algn="just">
              <a:lnSpc>
                <a:spcPct val="100000"/>
              </a:lnSpc>
              <a:spcBef>
                <a:spcPts val="799"/>
              </a:spcBef>
              <a:buClr>
                <a:srgbClr val="055baf"/>
              </a:buClr>
              <a:buFont typeface="Wingdings" charset="2"/>
              <a:buChar char="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 distribuído por procedimentos e não por quantidade de equip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400" spc="-1" strike="noStrike">
                <a:solidFill>
                  <a:srgbClr val="055baf"/>
                </a:solidFill>
                <a:latin typeface="Arial"/>
                <a:ea typeface="Arial"/>
              </a:rPr>
              <a:t>O RESULTADO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50920" y="1773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708280"/>
          <a:ext cx="7848360" cy="286560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IVIDADE/RESULT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É AGOSTO/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ÓS CONTRATO jun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CEN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dimen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tividade Mê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(ab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atividade Mê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(ab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dores Re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250920" y="1773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ULT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MO DE RESULTADOS EM U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ANDA DO PERÍODO Ordem de Serviços                20363 DESCONSIDERADO         Incompleto                                 920 GLOSA PRODUTO            Demandante                              801 GLOSA QUALIDADE         Fiscal/Gestor (24%)                 4474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tal a Faturar                                                                 1416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916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STJ  - Integração do Judiciário – 33 tribu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Gráfico 6" descr=""/>
          <p:cNvPicPr/>
          <p:nvPr/>
        </p:nvPicPr>
        <p:blipFill>
          <a:blip r:embed="rId1"/>
          <a:stretch/>
        </p:blipFill>
        <p:spPr>
          <a:xfrm>
            <a:off x="2054160" y="2567160"/>
            <a:ext cx="5072040" cy="33829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59500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a CNJ para 2014: 9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1916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stema Justiç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Gráfico 4" descr=""/>
          <p:cNvPicPr/>
          <p:nvPr/>
        </p:nvPicPr>
        <p:blipFill>
          <a:blip r:embed="rId1"/>
          <a:stretch/>
        </p:blipFill>
        <p:spPr>
          <a:xfrm>
            <a:off x="2054160" y="2560680"/>
            <a:ext cx="5072040" cy="32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0" y="580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a CNJ para 2014: 9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1916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fraestrutura de r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587700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a CNJ para 2014: 9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Gráfico 7" descr=""/>
          <p:cNvPicPr/>
          <p:nvPr/>
        </p:nvPicPr>
        <p:blipFill>
          <a:blip r:embed="rId1"/>
          <a:stretch/>
        </p:blipFill>
        <p:spPr>
          <a:xfrm>
            <a:off x="2054160" y="2560680"/>
            <a:ext cx="5072040" cy="33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1916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dos serviç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587700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a CNJ para 2014: 9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Gráfico 8" descr=""/>
          <p:cNvPicPr/>
          <p:nvPr/>
        </p:nvPicPr>
        <p:blipFill>
          <a:blip r:embed="rId1"/>
          <a:stretch/>
        </p:blipFill>
        <p:spPr>
          <a:xfrm>
            <a:off x="2054160" y="2567160"/>
            <a:ext cx="529128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Tahoma"/>
              </a:rPr>
              <a:t>ADESÕES AO MODELO</a:t>
            </a:r>
            <a:r>
              <a:rPr b="1" lang="en-GB" sz="2800" spc="-1" strike="noStrike">
                <a:solidFill>
                  <a:srgbClr val="558ed5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Imprensa 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Secretaria da Receita Federal, Fazenda do 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Governo de Pernambu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Instituto de Pesquisa Mineral, INEP, C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Eletronuclear – RJ, Amazônia Nucl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Ministério das Cidades, Interior, Cultura, Transp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GU, C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Ata de Registro, Fase de Edital e Fase de Pro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Arial"/>
                <a:ea typeface="Tahoma"/>
              </a:rPr>
              <a:t>Apresentação do Modelo para mais de 40 Instituições Públ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1116000" y="1838160"/>
            <a:ext cx="69850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55baf"/>
                </a:solidFill>
                <a:latin typeface="Tahoma"/>
              </a:rPr>
              <a:t>OBRIGAD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55baf"/>
                </a:solidFill>
                <a:latin typeface="Tahoma"/>
              </a:rPr>
              <a:t>Carlos Dini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55baf"/>
                </a:solidFill>
                <a:latin typeface="Tahoma"/>
              </a:rPr>
              <a:t>Controle de Serviç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55baf"/>
                </a:solidFill>
                <a:latin typeface="Tahoma"/>
              </a:rPr>
              <a:t>cdiniz@stj.jus.b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emas dos proje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áb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d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ll Center/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Infra-estru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atacenter/Hosting/Co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erviços locais de infra-estru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55baf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aaS/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sultorias em governança de 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Arial"/>
              </a:rPr>
              <a:t>Proposta TiCont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r um modelo de contratação de serviços para Infraestrutura de TI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sse moldado em conformidade com o QRN (TI Control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peitasse as normas lega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vesse alinhado às Instruções Normativas MPO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plicasse as melhores práticas de mercad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arantisse a transparência para contratação e execu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casse a produtividade e qualidade como principais fatores de contrat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55baf"/>
                </a:solidFill>
                <a:latin typeface="Arial"/>
                <a:ea typeface="Arial"/>
              </a:rPr>
              <a:t>A IDÉI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50920" y="155736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55baf"/>
                </a:solidFill>
                <a:latin typeface="Arial"/>
                <a:ea typeface="Arial"/>
              </a:rPr>
              <a:t>Serviços de Infraestrutura de 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55baf"/>
                </a:solidFill>
                <a:latin typeface="Arial"/>
                <a:ea typeface="Arial"/>
              </a:rPr>
              <a:t>Modelo em 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55baf"/>
                </a:solidFill>
                <a:latin typeface="Arial"/>
                <a:ea typeface="Arial"/>
              </a:rPr>
              <a:t>Criação do Mode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796000" y="4267080"/>
            <a:ext cx="3201840" cy="2443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"/>
          <p:cNvSpPr/>
          <p:nvPr/>
        </p:nvSpPr>
        <p:spPr>
          <a:xfrm>
            <a:off x="468360" y="1771560"/>
            <a:ext cx="8424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Arial"/>
              </a:rPr>
              <a:t>Equipe Responsá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incipais 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aplicações e/ou serviç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disponibilidade de horário normal para manutenções preventiv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 e atualização da document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erenciamento dos inciden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 baseada em resultad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cilidade de gerenciamen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ativ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50920" y="184464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55baf"/>
                </a:solidFill>
                <a:latin typeface="Arial"/>
                <a:ea typeface="Arial"/>
              </a:rPr>
              <a:t>Histórico da Contra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ática de Merca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sto de Trabalho – Exclusividade x Ociosida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Horas – Realização x Custo/Negociaçã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scopo – Qualidade x Fixação do Obje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os desses modelos de contrat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tividade – Quanto mais problem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lhor para a contrata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hecimento – Quanto men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ção e procedimentos mai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pendência do tercei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55ba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– Apenas gestor e preposto negoci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1159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2651040" cy="267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martine Ribeiro</dc:creator>
  <dc:description/>
  <dc:language>en-US</dc:language>
  <cp:lastModifiedBy>Carlos Diniz</cp:lastModifiedBy>
  <dcterms:modified xsi:type="dcterms:W3CDTF">2011-07-29T10:41:16Z</dcterms:modified>
  <cp:revision>306</cp:revision>
  <dc:subject/>
  <dc:title>Slide 1</dc:title>
</cp:coreProperties>
</file>